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5735-D352-46F1-B5A7-339517FA0C56}" type="slidenum"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zioni  dall’ufficio vend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9FA-EBFC-4B23-94D9-BF1068DC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BE6-7AFC-40B6-A60D-DB0B5C23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3809-3704-41CF-9EE8-F65A9698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9A3E-8551-48DB-8E1C-C54B3C4A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92119-B427-463B-9DEF-2B994DF2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EA78C-B7A8-485B-B83C-65E8D945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ABDEFC-99A4-4819-8AFF-40151ABC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7C95D-3C0A-4FD9-BCCF-5AD39EA6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F96C6-CF7D-4449-8FB5-BAB77C35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33C8D-250D-4BA3-8482-34C998CA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D5553-0E12-4970-8F52-DD1A3588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3CC3-4D43-43C3-94BB-6DB00799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80C7D-8BF7-4635-B7F4-1A18EAC7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193B7-B696-41DD-AFB7-8267D676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D82E2-3548-49C3-B982-E1B8E010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84434-BC27-4C55-BBA5-4F1F3224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624FB-69E3-41B1-B56B-18645D1E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69AF-E372-4EB5-A7A9-A9B4248D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307C-7091-4DE4-97EE-365773C3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F817-4ADF-4E43-897C-8AE3C6A1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AC7-D90C-4F5B-96C5-82983D56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5F4-E813-4DA4-BED5-C106ACD7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817-FC71-4A5F-93FA-F16DA9F3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5AD-4DF2-4C0C-9E3E-EB11D005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D5A4-342D-47B9-8B0B-60AF04F33EA6}" type="slidenum">
              <a:rPr b="0" lang="en-I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15FE-B735-49BC-B41A-5F54CEFB8338}" type="slidenum">
              <a:rPr b="0" lang="en-I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Chronos S.p.A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89000"/>
            <a:ext cx="64008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Dove il tempo non si ferma mai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97320" y="5576760"/>
            <a:ext cx="2448000" cy="707760"/>
          </a:xfrm>
          <a:prstGeom prst="rect">
            <a:avLst/>
          </a:prstGeom>
          <a:solidFill>
            <a:srgbClr val="969696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Chronos S.p.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ffff"/>
                </a:solidFill>
                <a:latin typeface="Arial"/>
              </a:rPr>
              <a:t>Strada Nuova 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733920" y="4800600"/>
            <a:ext cx="1728720" cy="1439640"/>
            <a:chOff x="3733920" y="4800600"/>
            <a:chExt cx="1728720" cy="1439640"/>
          </a:xfrm>
        </p:grpSpPr>
        <p:sp>
          <p:nvSpPr>
            <p:cNvPr id="94" name=""/>
            <p:cNvSpPr/>
            <p:nvPr/>
          </p:nvSpPr>
          <p:spPr>
            <a:xfrm>
              <a:off x="3733920" y="4800600"/>
              <a:ext cx="1728720" cy="1439640"/>
            </a:xfrm>
            <a:prstGeom prst="flowChartExtract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4354560" y="5045040"/>
              <a:ext cx="503280" cy="493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Obiettiv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Aumento vendite del 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Aumento numero di distributo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Aumento numero di linee di prodot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ff"/>
                </a:solidFill>
                <a:latin typeface="Tahoma"/>
              </a:rPr>
              <a:t>Riduzione cost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assi livelli di magazzi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iparazioni e supporto esternalizz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Rinnovo rapido dei magazz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ahoma"/>
              </a:rPr>
              <a:t>Bassi costi nella catena di distribuzi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2743200"/>
            <a:ext cx="11527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52:04Z</dcterms:created>
  <dc:creator>AICA</dc:creator>
  <dc:description/>
  <dc:language>en-US</dc:language>
  <cp:lastModifiedBy>Silvana Lombardi</cp:lastModifiedBy>
  <dcterms:modified xsi:type="dcterms:W3CDTF">2005-04-16T18:51:54Z</dcterms:modified>
  <cp:revision>19</cp:revision>
  <dc:subject/>
  <dc:title>chronos.ppt</dc:title>
</cp:coreProperties>
</file>